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E208-3757-4309-87B3-1325A3C4A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EDB1-A43A-432F-B34C-B48EC416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5D7F-B3E3-4402-A356-0BF342219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9952-1837-4F4D-B1AF-566536B8B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9C4C-0DC2-4B3C-AF40-01F5604F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7E72-4AB9-47A7-B9C3-9F95690E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98E7-D71D-4636-890A-E2E59457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31D8-1B92-41A4-A5D2-4DD5DB55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CE3B-C034-4C42-B3EC-6ADA67FA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224A-BF61-456A-A940-B3800F8F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21EA-C8F0-4B27-A261-1C2EF0BD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1027-167E-44E4-98F0-D47AAA1F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EA1A-DDAD-4EE7-8B37-BB2BAFF5A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9280" y="979560"/>
            <a:ext cx="8713800" cy="53290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1628640"/>
            <a:ext cx="1440000" cy="17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79640" y="1628640"/>
            <a:ext cx="1440000" cy="17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80000" y="1628640"/>
            <a:ext cx="1439640" cy="17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64000" y="1628640"/>
            <a:ext cx="1440000" cy="17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1700280"/>
            <a:ext cx="136692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F &amp;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79640" y="1700280"/>
            <a:ext cx="136692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F &amp;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81440" y="1700280"/>
            <a:ext cx="136692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e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HW, Mech, 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65800" y="1700280"/>
            <a:ext cx="136692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-Com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WC, SW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3859200"/>
            <a:ext cx="144000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8720" y="399744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4437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6000" y="44370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79640" y="3859200"/>
            <a:ext cx="144000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40000" y="39974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80000" y="3859200"/>
            <a:ext cx="302400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32360" y="39974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9080" y="465120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M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465120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79640" y="4437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44370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00360" y="465120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M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2720" y="465120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443700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44370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3280" y="4651200"/>
            <a:ext cx="5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24360" y="46512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80000" y="24019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242100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00720" y="254808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M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80000" y="254808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64000" y="2401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242100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254808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M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64000" y="254808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284472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9‘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11280" y="284472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‘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51280" y="284472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‘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14920" y="2844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‘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35640" y="28447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1‘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56360" y="28386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‘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3280" y="50720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‘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87280" y="50785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‘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50920" y="50785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‘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43280" y="50785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‘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16360" y="50785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‘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43280" y="50785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92720" y="44370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84720" y="44370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35640" y="465120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P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35640" y="50785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‘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229440" y="465120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29440" y="50785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‘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36000" y="3860640"/>
            <a:ext cx="1439640" cy="17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24720" y="39974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236000" y="44942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956720" y="450864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56720" y="4567320"/>
            <a:ext cx="71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artner, Lice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236000" y="4653000"/>
            <a:ext cx="9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M, P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07280" y="507852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‘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93080" y="50720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‘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00360" y="979560"/>
            <a:ext cx="0" cy="532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112392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24200" y="1123920"/>
            <a:ext cx="31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Featu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20000" y="979560"/>
            <a:ext cx="0" cy="532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79640" y="2421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2421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5800" y="345960"/>
            <a:ext cx="816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80‘ Scenario for FY04/0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12.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6308640"/>
            <a:ext cx="17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: 235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00720" y="6308640"/>
            <a:ext cx="17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: 204‘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51640" y="6308640"/>
            <a:ext cx="14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: 72‘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08720" y="1125360"/>
            <a:ext cx="136872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1‘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93080" y="2421000"/>
            <a:ext cx="1726920" cy="576360"/>
          </a:xfrm>
          <a:prstGeom prst="wedgeEllipseCallout">
            <a:avLst>
              <a:gd name="adj1" fmla="val -2023"/>
              <a:gd name="adj2" fmla="val -11308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p: 31,3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51280" y="5734080"/>
            <a:ext cx="790560" cy="431640"/>
          </a:xfrm>
          <a:prstGeom prst="wedgeEllipseCallout">
            <a:avLst>
              <a:gd name="adj1" fmla="val -17870"/>
              <a:gd name="adj2" fmla="val -11764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0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958160" y="5734080"/>
            <a:ext cx="790560" cy="431640"/>
          </a:xfrm>
          <a:prstGeom prst="wedgeEllipseCallout">
            <a:avLst>
              <a:gd name="adj1" fmla="val -5421"/>
              <a:gd name="adj2" fmla="val -11360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‘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093080" y="3284640"/>
            <a:ext cx="9349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94880" y="3284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v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028000" y="3573360"/>
            <a:ext cx="792000" cy="432000"/>
          </a:xfrm>
          <a:prstGeom prst="wedgeEllipseCallout">
            <a:avLst>
              <a:gd name="adj1" fmla="val -87074"/>
              <a:gd name="adj2" fmla="val -3125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7‘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09:00:27Z</dcterms:created>
  <dc:creator>Jürgen Schmitz</dc:creator>
  <dc:description/>
  <dc:language>en-US</dc:language>
  <cp:lastModifiedBy>Linder Robert</cp:lastModifiedBy>
  <dcterms:modified xsi:type="dcterms:W3CDTF">2004-12-10T10:24:01Z</dcterms:modified>
  <cp:revision>23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uthorEmail">
    <vt:lpwstr>linder.robert@siemens.com</vt:lpwstr>
  </property>
  <property fmtid="{D5CDD505-2E9C-101B-9397-08002B2CF9AE}" pid="3" name="_AuthorEmailDisplayName">
    <vt:lpwstr>Linder Robert Com MD PD OS</vt:lpwstr>
  </property>
  <property fmtid="{D5CDD505-2E9C-101B-9397-08002B2CF9AE}" pid="4" name="_EmailEntryID">
    <vt:lpwstr>00000000BDCAF715C440B448BEAB1A6249C7E26907002C596574BA874846A35C843BA87906D70000000FB94B00002C596574BA874846A35C843BA87906D7000001E228A40000</vt:lpwstr>
  </property>
  <property fmtid="{D5CDD505-2E9C-101B-9397-08002B2CF9AE}" pid="5" name="_EmailStoreID">
    <vt:lpwstr>0000000038A1BB1005E5101AA1BB08002B2A56C20000454D534D44422E444C4C00000000000000001B55FA20AA6611CD9BC800AA002FC45A0C0000004D434848394D5041002F6F3D53434E2F6F753D5342534D434848303031452F636E3D526563697069656E74732F636E3D5363686D69747A4A00</vt:lpwstr>
  </property>
  <property fmtid="{D5CDD505-2E9C-101B-9397-08002B2CF9AE}" pid="6" name="_EmailSubject">
    <vt:lpwstr>Please review 'Budget_Übersicht'</vt:lpwstr>
  </property>
  <property fmtid="{D5CDD505-2E9C-101B-9397-08002B2CF9AE}" pid="7" name="_ReviewCycleID">
    <vt:r8>-804364823</vt:r8>
  </property>
</Properties>
</file>